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93031"/>
        <c:axId val="98335768"/>
      </c:barChart>
      <c:catAx>
        <c:axId val="74993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35768"/>
        <c:crosses val="autoZero"/>
        <c:auto val="1"/>
        <c:lblAlgn val="ctr"/>
        <c:lblOffset val="100"/>
        <c:noMultiLvlLbl val="0"/>
      </c:catAx>
      <c:valAx>
        <c:axId val="98335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93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FB9-2667-41E5-BEF1-3F7D8D9C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AF9-47EB-4819-B01B-48EFCB8D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08EF-E0F5-4DED-A60E-5478FCF9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0CD-6085-4CD5-BD5A-33079F9A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89C-DACF-426D-9A6A-EA65F365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EE25-548A-4A60-8A5B-9805374F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779B-7B20-4AEF-82FF-4790C5C6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AF3-57C1-4D04-A382-B18FDF54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187-B45C-475E-878F-17CC4224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449-898E-4683-8FCD-8EA74F34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EE9-AE50-4258-AD6B-4BABCFE2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31A-15C2-47AD-84FC-1689DC65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5E4AB-3C38-4A9F-B247-100A6125ED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