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84437"/>
        <c:axId val="62693407"/>
      </c:barChart>
      <c:catAx>
        <c:axId val="63684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3407"/>
        <c:crosses val="autoZero"/>
        <c:auto val="1"/>
        <c:lblAlgn val="ctr"/>
        <c:lblOffset val="100"/>
        <c:noMultiLvlLbl val="0"/>
      </c:catAx>
      <c:valAx>
        <c:axId val="6269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4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44D-A489-4DE9-950A-6B4CE908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671-D47F-491A-A92B-39BF2F6F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FD-1841-47C0-BBD7-5CC43BF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16D-52AF-4544-81C8-9BA01557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29D-F79A-4D1E-BB9A-98EEA43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4F-8507-46A9-939C-B257568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0FD-89FA-4A1B-B75B-0EBFAA0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DD1-F24B-4990-A984-0091393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A8A-A4DD-4D94-8776-6582C233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10E-BF32-45DB-B707-4501214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577-B6EE-4B28-8737-C302025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C55-5FD6-4A49-B5EC-CECE728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70BA8-21A0-4D2F-985E-6A66D7E538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